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8B8-764D-43C7-8A2C-DA6E0C0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4CD-F203-4D1E-8F27-9659F3D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227-DAC9-4968-B656-3B0F6D35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0AA-C06C-4245-B849-3A9873C2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A31D-ECC3-4936-8ADD-9723D1DC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4E8A2-76F7-487C-9F76-BCC0CA6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D82B-4207-4CAC-8249-848B2321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8E277-8C87-4CB7-8E6E-5E9233F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2B60-ADB6-486B-B9B6-FBA3880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09DD-6373-4837-9DC6-C368123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622C3-C43B-4E0B-AA0B-B2139CE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E22-E372-47A9-8D49-49042D60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E28DC-C8B5-4131-89EA-DC63B03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849A1-4566-437A-813B-15CF2CA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CC9CE-72E8-4B86-A8A3-504DE007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B9D67-7BFD-40EA-9BE2-E70B89A4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75D9-9F17-4703-B4B2-2055DA42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9407-54D2-4CF0-B773-4714A2C6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67AA-9C81-4700-8A22-3C164E0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67EC-80D5-45F8-B734-8158813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A696-1117-47AB-80FC-708A5CCF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81B2-E248-4FCF-B959-7D1E2A6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594-B470-4DF1-87E2-6EE35239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69BD-00DA-4432-8FF6-FF1A8E3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3EA9-AAD0-43FD-BBAA-2C4D05A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1AED-39C0-4DCA-9E91-CF3061E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ACD0-593A-42D0-BD59-C14E2EC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628D-B783-42BB-8C49-44117AF6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BE77-F975-49BE-8C6E-72F472FC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F5A3-C335-40F9-B0E2-F96EECA1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88556-024A-41D0-BC07-2386E18B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F12D4-61A3-480D-978C-5381BB1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DB3B6-DEC7-4BE4-B40D-F147F06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844-6670-429F-8FC7-BA892C24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3CDA0-38E2-4490-9495-AF74CF4C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143C8-F3A8-4185-9EB4-49E4D15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99C3B-911B-4BAD-BFEF-E5ADBD2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081B8-D184-4726-A6CB-8CC2B78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40657-56B1-40E5-AC0D-B1E3F35C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2C071-BC6B-46AA-A66C-A87A9B6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60BF6-63A0-46AC-A031-F97BD99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55C0F-FCA0-42C5-A9CE-57703D5B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9BFF9-43D3-4C12-BDA2-589840F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30A1C-212A-42AF-AF9C-FE0C325F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486-CA16-43B0-9038-0E0B0918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3984D-5322-4A17-9EBB-F2AE5BFE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BDE04-3925-42DE-89CB-87CFE0C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0E4C2-29F4-41C0-BB41-7E0090BE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F58D8-623E-468D-A4D8-54C994F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3C91E-9E2B-49FA-8B7F-090F551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62F85-D5FA-449B-A92F-E2B4934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9DEDE-0D94-4DB3-935B-D5BA4D5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F3338-21AD-45DA-B148-C98FAED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8BE0F-A6A7-4353-9232-AABE17B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D39E3-CC1A-4A7F-98A2-4C3E0BD2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EBA-6855-4312-B5CA-85F9A39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D9E28-5947-4DDD-9BDD-9DB00F6B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6C642-21A5-4E1F-B5AE-CBF76E06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EBD89-6162-4CD4-A27F-40CF7C7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1C4B2-20C0-4FD0-8F98-D607CDD8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28089-430C-46B9-A73B-BE12C6D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A4458-4067-418F-B5CF-7975415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4745C-D477-4AE5-8D2D-C5172D89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FDDD8-A285-4DBD-ABEA-676A754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6FA05-3F14-4E3F-9EE8-938F934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F908F-5359-4458-9D44-467EF23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765-36B2-4410-919F-62FD86E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C1357-F1A1-46ED-98A1-B9FC7567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04552-0167-4A2B-A755-EFDBBE1E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18E9C-9DE8-4F39-B225-3B3233FD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1C0-9BF1-4602-9F72-7167463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D37-9327-4F05-B05B-12D307D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D4B8-C6A0-4360-AE5C-6D64A9BDFFFF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1676-0A4B-48B3-AED2-12C4AC21B80C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FE31-B83C-4C1B-A3C1-B97206D7C7FE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253F-B39F-4818-A851-15D69725ECF3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630-6EBC-4D0D-B4C2-F166504A50FF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5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lvl="6" marL="1554120" indent="-228600">
              <a:spcBef>
                <a:spcPts val="601"/>
              </a:spcBef>
              <a:buClr>
                <a:srgbClr val="fdf5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df59c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1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af1d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737-A11E-4557-B665-D38125F05744}" type="slidenum">
              <a:rPr b="0" lang="en-US" sz="1600" spc="-1" strike="noStrike">
                <a:solidFill>
                  <a:srgbClr val="faf1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af1d4"/>
              </a:solidFill>
              <a:latin typeface="Century Schoolbook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2206800"/>
            <a:ext cx="8321760" cy="19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Люди с самого своего рождения не могли объяснить многие явления окружающего их мира. Как только они ни пытались объяснить непонятные им явления! Так появились религии, а вместе с ними – Боги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И сейчас речь пойдёт об одной древней религии, а вернее об её Богах. </a:t>
            </a: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Schoolbook"/>
                <a:hlinkClick r:id="rId2" action="ppaction://hlinksldjump"/>
              </a:rPr>
              <a:t>Добрых Богах Древнего Египта.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      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8e58b6"/>
                </a:solidFill>
                <a:uFillTx/>
                <a:latin typeface="Century Schoolbook"/>
                <a:hlinkClick r:id="rId2" action="ppaction://hlinksldjump"/>
              </a:rPr>
              <a:t>Амон Ра – Бог Солнца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Гор – Бог Неба и Света, Бог-фараон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Осирис – Бог Загробного Мира и Судья умерших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Анубис – Бог-покровитель умерших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Себек – Бог Нила, Воды и Плодородия</a:t>
            </a: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в начало 4">
            <a:hlinkClick r:id="" action="ppaction://hlinkshowjump?jump=firstslide"/>
          </p:cNvPr>
          <p:cNvSpPr/>
          <p:nvPr/>
        </p:nvSpPr>
        <p:spPr>
          <a:xfrm>
            <a:off x="7620120" y="5867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1601" y="10800"/>
                </a:moveTo>
                <a:lnTo>
                  <a:pt x="22106" y="3794"/>
                </a:lnTo>
                <a:lnTo>
                  <a:pt x="22106" y="17806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9756" y="3794"/>
                </a:lnTo>
                <a:lnTo>
                  <a:pt x="9756" y="17806"/>
                </a:lnTo>
                <a:lnTo>
                  <a:pt x="8093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I:\Боги Древнего Египта\Боги\amon.jpg"/>
          <p:cNvPicPr/>
          <p:nvPr/>
        </p:nvPicPr>
        <p:blipFill>
          <a:blip r:embed="rId2"/>
          <a:stretch/>
        </p:blipFill>
        <p:spPr>
          <a:xfrm>
            <a:off x="6934320" y="1371600"/>
            <a:ext cx="1904760" cy="5181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632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- покровитель города Фивы, бог воздуха и урожая, творец мира; изображался в виде человека (иногда с головой барана) со скипетром и в короне, с двумя высокими перьями и солнечным диском. Верховный Бог Древнего Египта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Являлся Богом Солнца, Богом Света. Каждый день он подымался по небу на своей лодке, освещая всю землю, а вечером он опускался в подземный мир, где вел борьбу с силами тьмы. Он всегда побеждал и вновь каждое утро подымался на небесный свод. Он боролся с силами Хаоса. Символом его неизменного возрождения являлся знак Анх - это крест, у которого вместо верхней палочки находиться круг. В средневековой алхимии Анх являлся символом бессмертия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321760" cy="1609920"/>
          </a:xfrm>
          <a:prstGeom prst="rect">
            <a:avLst/>
          </a:prstGeom>
          <a:ln w="0">
            <a:noFill/>
          </a:ln>
        </p:spPr>
      </p:pic>
      <p:sp>
        <p:nvSpPr>
          <p:cNvPr id="26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3452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291960" y="285840"/>
            <a:ext cx="8566200" cy="1396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6840" y="129528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Неба и Света, покровитель фараонов, которые считались его земным воплощением; изображался как человек с головой сокола в короне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f59c"/>
                </a:solidFill>
                <a:latin typeface="Century Schoolbook"/>
              </a:rPr>
              <a:t> 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Из всех ипостасей Гора наиболее значимыми являются Гор — сын Исиды и Осириса — одно из главных действующих лиц в событиях, связанных со смертью и воскресением Осириса, - он побеждает убийцу Осириса Сета и возвращает Осириса к жизни. Гор становится преемником власти Осириса над Египтом, покровителем и защитником фараонов. После смерти фараон отождествлялся с Осирисом, а новый — с Гором. Имя Гора входит в пятичленный титул фараона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5" name="Picture 2" descr="I:\Боги Древнего Египта\Боги\0.jpeg"/>
          <p:cNvPicPr/>
          <p:nvPr/>
        </p:nvPicPr>
        <p:blipFill>
          <a:blip r:embed="rId3"/>
          <a:stretch/>
        </p:blipFill>
        <p:spPr>
          <a:xfrm>
            <a:off x="5867280" y="1219320"/>
            <a:ext cx="2886120" cy="518148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возврат 7"/>
          <p:cNvSpPr/>
          <p:nvPr/>
        </p:nvSpPr>
        <p:spPr>
          <a:xfrm>
            <a:off x="815328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Бог ежегодно умирающей и возрождающейся природы, позднее - Бог Загробного Мира и Судья умерших; изображался в виде человеческой мумии в короне, обрамленной перьями, бородой, в согнутых руках -  скипетр и плеть.</a:t>
            </a:r>
            <a:r>
              <a:rPr b="0" lang="ru-RU" sz="1800" spc="-1" strike="noStrike">
                <a:solidFill>
                  <a:srgbClr val="faf1d4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По преданию, он научил людей земледелию и ремеслам, т.е. дал им возможность перейти от варварства к цивилизации. С Осирисом связан один из самых значимых для Египетской Культуры мифологических циклов, рассказывающий о его коварном убийстве, совершенном Сетом, и последующем воскресении бога Исидой и Гором. Передав Гору власть над Египтом, Осирис становится затем Царем Подземного Царства Мёртвых. Осирис почитался по всему Египту и далеко за его пределами.</a:t>
            </a: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2"/>
          <a:stretch/>
        </p:blipFill>
        <p:spPr>
          <a:xfrm>
            <a:off x="603360" y="500040"/>
            <a:ext cx="8321400" cy="202392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возврат 3"/>
          <p:cNvSpPr/>
          <p:nvPr/>
        </p:nvSpPr>
        <p:spPr>
          <a:xfrm>
            <a:off x="7772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502480" cy="1354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838080"/>
            <a:ext cx="4952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в образе шакала или дикой собаки (или человека с головой шакала или собаки); считался покровителем умерших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 эпоху Древнего царства Анубис почитался как Главный Бог Царства Мёртвых, однако в период Среднего и Нового царств он уступил свое место Осирису, а сам стал богом из окружения Осириса. В царстве мертвых Анубис вводит Душу умершего в Зал Двух Истин, где происходит Суд над ней, взвешивает его сердце на весах. Анубис играет важную роль при осуществлении погребального ритуала, в процессах бальзамирования и мумифицирования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2" name="Picture 2" descr="I:\Боги Древнего Египта\Боги\1260007678_rrsrryos.jpg"/>
          <p:cNvPicPr/>
          <p:nvPr/>
        </p:nvPicPr>
        <p:blipFill>
          <a:blip r:embed="rId3"/>
          <a:stretch/>
        </p:blipFill>
        <p:spPr>
          <a:xfrm>
            <a:off x="5562720" y="914400"/>
            <a:ext cx="3200400" cy="5562720"/>
          </a:xfrm>
          <a:prstGeom prst="rect">
            <a:avLst/>
          </a:prstGeom>
          <a:ln w="0">
            <a:noFill/>
          </a:ln>
        </p:spPr>
      </p:pic>
      <p:sp>
        <p:nvSpPr>
          <p:cNvPr id="273" name="Управляющая кнопка: возврат 5"/>
          <p:cNvSpPr/>
          <p:nvPr/>
        </p:nvSpPr>
        <p:spPr>
          <a:xfrm>
            <a:off x="81532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7493"/>
                </a:moveTo>
                <a:lnTo>
                  <a:pt x="13469" y="7493"/>
                </a:lnTo>
                <a:lnTo>
                  <a:pt x="13469" y="12828"/>
                </a:lnTo>
                <a:cubicBezTo>
                  <a:pt x="13469" y="13751"/>
                  <a:pt x="14270" y="14482"/>
                  <a:pt x="15306" y="14482"/>
                </a:cubicBezTo>
                <a:lnTo>
                  <a:pt x="16968" y="14482"/>
                </a:lnTo>
                <a:cubicBezTo>
                  <a:pt x="18004" y="14482"/>
                  <a:pt x="18805" y="13751"/>
                  <a:pt x="18805" y="12828"/>
                </a:cubicBezTo>
                <a:lnTo>
                  <a:pt x="18805" y="7493"/>
                </a:lnTo>
                <a:lnTo>
                  <a:pt x="16968" y="7493"/>
                </a:lnTo>
                <a:lnTo>
                  <a:pt x="20476" y="3985"/>
                </a:lnTo>
                <a:lnTo>
                  <a:pt x="24149" y="7493"/>
                </a:lnTo>
                <a:lnTo>
                  <a:pt x="22312" y="7493"/>
                </a:lnTo>
                <a:lnTo>
                  <a:pt x="22312" y="12828"/>
                </a:lnTo>
                <a:cubicBezTo>
                  <a:pt x="22312" y="15596"/>
                  <a:pt x="19736" y="18155"/>
                  <a:pt x="16968" y="18155"/>
                </a:cubicBezTo>
                <a:lnTo>
                  <a:pt x="15306" y="18155"/>
                </a:lnTo>
                <a:cubicBezTo>
                  <a:pt x="12538" y="18155"/>
                  <a:pt x="9962" y="15596"/>
                  <a:pt x="9962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Бог в образе крокодила (или человека с головой крокодила); считался покровителем и хранителем реки Нил, Богом Воды и Плодородия. 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К Себеку обращались с молитвами об излечении болезней, о помощи в трудных жизненных положениях. Считалось также, что Себек заботится об участи умершего в потустороннем мире. Иногда Себек считался спутником Ра, а иногда его противником. Его женой и женским воплощением являлась Богиня Себекет, которая изображалась в облике женщины с головой льва. Если неосторожного человека съедал крокодил, считали, что Бог оказал ему великую милость. В специальных бассейнах египтяне держали приручённых крокодилов с золотыми браслетами на лапах и серьгами в ушах.</a:t>
            </a: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530280" y="122400"/>
            <a:ext cx="8242200" cy="1865160"/>
          </a:xfrm>
          <a:prstGeom prst="rect">
            <a:avLst/>
          </a:prstGeom>
          <a:ln w="0">
            <a:noFill/>
          </a:ln>
        </p:spPr>
      </p:pic>
      <p:sp>
        <p:nvSpPr>
          <p:cNvPr id="276" name="Управляющая кнопка: возврат 3"/>
          <p:cNvSpPr/>
          <p:nvPr/>
        </p:nvSpPr>
        <p:spPr>
          <a:xfrm>
            <a:off x="777240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1" y="13751"/>
                  <a:pt x="18631" y="12828"/>
                </a:cubicBezTo>
                <a:lnTo>
                  <a:pt x="18631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8" y="15596"/>
                  <a:pt x="9788" y="12828"/>
                </a:cubicBez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Итак, Древний Египет , несомненно, это одно из величайших государств, существовавших в мировой истории. Древние египтяне внесли огромный вклад в сокровищницу мировой культуры, совершенно не подозревая об этом – они оставили нам свои храмы и гробницы, папирусы  и, конечно же, мифы и легенды, с помощью которых мы можем узнать о таких Добрых Богах древнего Египта, как: Амон Ра, Гор, Осирис, Анубис, Себек… А ведь есть ещё и другие Добрые и Злые Боги и Богини, Демоны Древнего Египта, о которых было сложено немало прекрасных мифов и легенд…</a:t>
            </a:r>
            <a:endParaRPr b="0" lang="en-US" sz="2200" spc="-1" strike="noStrike">
              <a:solidFill>
                <a:srgbClr val="fdf59c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Но это уже совсем другая история…</a:t>
            </a:r>
            <a:endParaRPr b="0" lang="en-US" sz="2200" spc="-1" strike="noStrike">
              <a:solidFill>
                <a:srgbClr val="fdf59c"/>
              </a:solidFill>
              <a:latin typeface="Century Schoolbook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2"/>
          <a:stretch/>
        </p:blipFill>
        <p:spPr>
          <a:xfrm>
            <a:off x="225360" y="378000"/>
            <a:ext cx="8315280" cy="138420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в начало 3"/>
          <p:cNvSpPr/>
          <p:nvPr/>
        </p:nvSpPr>
        <p:spPr>
          <a:xfrm>
            <a:off x="784872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59c"/>
              </a:solidFill>
              <a:latin typeface="Century Schoolboo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30T10:17:07Z</dcterms:modified>
  <cp:revision>16</cp:revision>
  <dc:subject/>
  <dc:title>   Добрые Боги Древнего Египта</dc:title>
</cp:coreProperties>
</file>